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5B2D-766F-421B-B516-2C76195DD97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A07-B7CA-468C-A242-130B5E9A8FF2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465F-04E3-4741-9538-DDE84B071948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0AA-2119-422C-A083-E5BEB26B02E5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dded bullets to some boxes—please check to ensure correc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A27-3A53-4084-BD50-A0B5F399D12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026E-6436-42DB-9AF3-3C0725BBF49C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B14-077C-4F5D-9E71-0D7CAC4DB05E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C86B-498A-44F6-B798-AC8F66BFE07B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E211-298C-4750-980B-2F119346A8F0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E8A-42A0-4730-BFAF-52559E4E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C34-3188-47DB-9647-9BC0E735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443-70C2-4AD7-ABD0-923D68AF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F0F-16BD-40E5-9875-7118A1E5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BFF1-92FB-4FB0-B8C8-371101DE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9F71-6051-453B-B3FC-B368EDF4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9DBF-E420-482F-A8D1-2D1C4036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9D8F-9D7A-4E13-A0C8-E787940D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976D-701D-4657-B42F-A7905CB7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741-5D2B-4194-802E-F51D55A7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F520-CBD9-4F79-9F88-571AA3A0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49D-8C43-46A8-AC0A-250CB305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04D4-9B5C-4E41-A440-F1AD778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0FC-BB68-4B12-8956-8538EB7A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7CD4-D97D-4724-91E6-31D75D8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BA2A-CBCF-446F-9AE0-2893AED4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53E0-01E7-44BB-BCA3-E75B43C1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AFD1-476A-4E3F-8DBD-163974CB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95A1-BADB-419A-8A98-743D8C32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F7BF-D770-446A-8510-F4FCC190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7336-806F-42F9-9B58-E4BEAAF5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51F4-FFAA-4B58-A491-ED404273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E77-9E76-4D1B-B8F2-B6D3DEE4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A8F9-8116-40D6-8DB3-ED009C57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26E5-2685-4892-9E4A-F433D68A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B375-EB09-4D7D-BF9F-45C380DF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976E-463D-4E0B-B0B2-A3DD20A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8289-D95A-4AF7-8593-3D1ABDE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4BD5-06A7-4CED-8C26-17EFE188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6B48-E285-4FD6-8897-E33E11AC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3F3-CE9A-4906-8EDD-34488500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6CC-A281-4159-A14F-680FDB25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DB6-009E-48C9-9690-3BE1D992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6AE-0935-4633-9397-C5276AE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1E4-4252-4AE4-8937-ADB95AA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782-6BD1-4B63-BE06-7827446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5E4E-5341-4D49-8E6D-64D3DE15FBC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Tiny LogoSymbol"/>
          <p:cNvPicPr/>
          <p:nvPr/>
        </p:nvPicPr>
        <p:blipFill>
          <a:blip r:embed="rId7"/>
          <a:stretch/>
        </p:blipFill>
        <p:spPr>
          <a:xfrm>
            <a:off x="152280" y="6019920"/>
            <a:ext cx="42408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7" descr="Tiny LogoSymbol"/>
          <p:cNvPicPr/>
          <p:nvPr/>
        </p:nvPicPr>
        <p:blipFill>
          <a:blip r:embed="rId2"/>
          <a:stretch/>
        </p:blipFill>
        <p:spPr>
          <a:xfrm>
            <a:off x="152280" y="6019920"/>
            <a:ext cx="424080" cy="711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0555-829A-4EC0-8876-710185E96AA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5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2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04" name="Picture 47" descr="Tiny LogoSymbol"/>
          <p:cNvPicPr/>
          <p:nvPr/>
        </p:nvPicPr>
        <p:blipFill>
          <a:blip r:embed="rId2"/>
          <a:stretch/>
        </p:blipFill>
        <p:spPr>
          <a:xfrm>
            <a:off x="152280" y="6019920"/>
            <a:ext cx="424080" cy="711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0BEF-28C6-4F07-8A58-AF162B85777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9800" y="19692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b-Based Tool and W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0560" y="1155600"/>
            <a:ext cx="7693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Platform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software to install… just a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load real work to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worrying about versions of data/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GIS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for wide range of user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&lt;-&gt;model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ing Open Source Softw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transpor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411120" y="182520"/>
            <a:ext cx="8293320" cy="368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Workflows Fit Well With OS GIS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371600" y="1143000"/>
            <a:ext cx="1689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252960" y="1143000"/>
            <a:ext cx="16887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5133960" y="1143000"/>
            <a:ext cx="1689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-Based DST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016760" y="1143000"/>
            <a:ext cx="1689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lexibil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 rot="5400000">
            <a:off x="392040" y="855720"/>
            <a:ext cx="922320" cy="88416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23"/>
          <p:cNvGrpSpPr/>
          <p:nvPr/>
        </p:nvGrpSpPr>
        <p:grpSpPr>
          <a:xfrm>
            <a:off x="410760" y="2217600"/>
            <a:ext cx="8295120" cy="1603080"/>
            <a:chOff x="410760" y="2217600"/>
            <a:chExt cx="8295120" cy="1603080"/>
          </a:xfrm>
        </p:grpSpPr>
        <p:sp>
          <p:nvSpPr>
            <p:cNvPr id="262" name="Rectangle 10"/>
            <p:cNvSpPr/>
            <p:nvPr/>
          </p:nvSpPr>
          <p:spPr>
            <a:xfrm>
              <a:off x="411120" y="2217600"/>
              <a:ext cx="8293320" cy="368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duced Expense for Tight Budge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71600" y="317808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ftware Expen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3252960" y="317808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ing/ Develop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5133960" y="317808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ployment and Hos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7016760" y="317808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???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lexibility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AutoShape 15"/>
            <p:cNvSpPr/>
            <p:nvPr/>
          </p:nvSpPr>
          <p:spPr>
            <a:xfrm rot="5400000">
              <a:off x="391680" y="2890440"/>
              <a:ext cx="922320" cy="8845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22"/>
          <p:cNvGrpSpPr/>
          <p:nvPr/>
        </p:nvGrpSpPr>
        <p:grpSpPr>
          <a:xfrm>
            <a:off x="410760" y="4176720"/>
            <a:ext cx="8295120" cy="1603080"/>
            <a:chOff x="410760" y="4176720"/>
            <a:chExt cx="8295120" cy="1603080"/>
          </a:xfrm>
        </p:grpSpPr>
        <p:sp>
          <p:nvSpPr>
            <p:cNvPr id="269" name="Rectangle 16"/>
            <p:cNvSpPr/>
            <p:nvPr/>
          </p:nvSpPr>
          <p:spPr>
            <a:xfrm>
              <a:off x="411120" y="4176720"/>
              <a:ext cx="8293320" cy="368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ndards Based – Transparent Develop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>
              <a:off x="1371600" y="513720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ndards Focus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3252960" y="513720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pen Develop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5133960" y="513720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munity Buil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20"/>
            <p:cNvSpPr/>
            <p:nvPr/>
          </p:nvSpPr>
          <p:spPr>
            <a:xfrm>
              <a:off x="7016760" y="5137200"/>
              <a:ext cx="16891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???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lexibility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21"/>
            <p:cNvSpPr/>
            <p:nvPr/>
          </p:nvSpPr>
          <p:spPr>
            <a:xfrm rot="5400000">
              <a:off x="391680" y="4849200"/>
              <a:ext cx="922320" cy="8845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2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ing the St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34"/>
          <p:cNvSpPr/>
          <p:nvPr/>
        </p:nvSpPr>
        <p:spPr>
          <a:xfrm rot="10800000">
            <a:off x="329760" y="1040760"/>
            <a:ext cx="8504280" cy="5459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3747960" y="4476600"/>
            <a:ext cx="167004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nu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2317680" y="2490840"/>
            <a:ext cx="455472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GIS Base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DAL, OGR, PostGI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1241280" y="1114560"/>
            <a:ext cx="3189600" cy="73404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GIS Web A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server, OpenLaye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3063960" y="3544920"/>
            <a:ext cx="3114720" cy="73404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Base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pache, Compiler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4506840" y="1114560"/>
            <a:ext cx="3416400" cy="73404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GIS Desktop A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GIS, GRAS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0"/>
          <p:cNvSpPr/>
          <p:nvPr/>
        </p:nvSpPr>
        <p:spPr>
          <a:xfrm flipV="1">
            <a:off x="5543640" y="1896840"/>
            <a:ext cx="684000" cy="507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41"/>
          <p:cNvSpPr/>
          <p:nvPr/>
        </p:nvSpPr>
        <p:spPr>
          <a:xfrm flipH="1" flipV="1">
            <a:off x="2824200" y="1909440"/>
            <a:ext cx="681120" cy="507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51"/>
          <p:cNvSpPr/>
          <p:nvPr/>
        </p:nvSpPr>
        <p:spPr>
          <a:xfrm flipH="1" flipV="1">
            <a:off x="2031840" y="1231560"/>
            <a:ext cx="76320" cy="3962520"/>
          </a:xfrm>
          <a:prstGeom prst="line">
            <a:avLst/>
          </a:prstGeom>
          <a:ln w="50760">
            <a:solidFill>
              <a:srgbClr val="2d61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D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8207280" y="1098720"/>
            <a:ext cx="536760" cy="5222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SEC D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17"/>
          <p:cNvGrpSpPr/>
          <p:nvPr/>
        </p:nvGrpSpPr>
        <p:grpSpPr>
          <a:xfrm>
            <a:off x="177840" y="838080"/>
            <a:ext cx="7854480" cy="5055480"/>
            <a:chOff x="177840" y="838080"/>
            <a:chExt cx="7854480" cy="5055480"/>
          </a:xfrm>
        </p:grpSpPr>
        <p:sp>
          <p:nvSpPr>
            <p:cNvPr id="288" name="Rectangle 4"/>
            <p:cNvSpPr/>
            <p:nvPr/>
          </p:nvSpPr>
          <p:spPr>
            <a:xfrm>
              <a:off x="177840" y="838080"/>
              <a:ext cx="394308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92929"/>
                  </a:solidFill>
                  <a:latin typeface="Arial"/>
                </a:rPr>
                <a:t>Users Modify Paramet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9" name="AutoShape 5"/>
            <p:cNvCxnSpPr>
              <a:stCxn id="288" idx="2"/>
              <a:endCxn id="290" idx="0"/>
            </p:cNvCxnSpPr>
            <p:nvPr/>
          </p:nvCxnSpPr>
          <p:spPr>
            <a:xfrm flipH="1" rot="16200000">
              <a:off x="2758680" y="689400"/>
              <a:ext cx="236520" cy="1454400"/>
            </a:xfrm>
            <a:prstGeom prst="curvedConnector5">
              <a:avLst>
                <a:gd name="adj1" fmla="val 50000"/>
                <a:gd name="adj2" fmla="val 49987"/>
                <a:gd name="adj3" fmla="val 50000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0" name="Rectangle 6"/>
            <p:cNvSpPr/>
            <p:nvPr/>
          </p:nvSpPr>
          <p:spPr>
            <a:xfrm>
              <a:off x="1655640" y="1534680"/>
              <a:ext cx="389376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92929"/>
                  </a:solidFill>
                  <a:latin typeface="Arial"/>
                </a:rPr>
                <a:t>Request Sent to Ser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1" name="AutoShape 7"/>
            <p:cNvCxnSpPr>
              <a:stCxn id="290" idx="2"/>
              <a:endCxn id="292" idx="0"/>
            </p:cNvCxnSpPr>
            <p:nvPr/>
          </p:nvCxnSpPr>
          <p:spPr>
            <a:xfrm flipH="1" rot="16200000">
              <a:off x="4167000" y="1431360"/>
              <a:ext cx="290520" cy="1418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2" name="Rectangle 8"/>
            <p:cNvSpPr/>
            <p:nvPr/>
          </p:nvSpPr>
          <p:spPr>
            <a:xfrm>
              <a:off x="3096000" y="2287080"/>
              <a:ext cx="385056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92929"/>
                  </a:solidFill>
                  <a:latin typeface="Arial"/>
                </a:rPr>
                <a:t>Server Processes Requ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3" name="AutoShape 9"/>
            <p:cNvCxnSpPr>
              <a:stCxn id="292" idx="2"/>
              <a:endCxn id="294" idx="0"/>
            </p:cNvCxnSpPr>
            <p:nvPr/>
          </p:nvCxnSpPr>
          <p:spPr>
            <a:xfrm flipH="1" rot="16200000">
              <a:off x="5194080" y="2574000"/>
              <a:ext cx="359640" cy="709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4" name="Rectangle 10"/>
            <p:cNvSpPr/>
            <p:nvPr/>
          </p:nvSpPr>
          <p:spPr>
            <a:xfrm>
              <a:off x="3429720" y="3108240"/>
              <a:ext cx="46026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92929"/>
                  </a:solidFill>
                  <a:latin typeface="Arial"/>
                </a:rPr>
                <a:t>Results Populated In Data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5" name="AutoShape 11"/>
            <p:cNvCxnSpPr>
              <a:stCxn id="294" idx="2"/>
              <a:endCxn id="296" idx="0"/>
            </p:cNvCxnSpPr>
            <p:nvPr/>
          </p:nvCxnSpPr>
          <p:spPr>
            <a:xfrm rot="5400000">
              <a:off x="5221080" y="3350880"/>
              <a:ext cx="290520" cy="729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6" name="Rectangle 12"/>
            <p:cNvSpPr/>
            <p:nvPr/>
          </p:nvSpPr>
          <p:spPr>
            <a:xfrm>
              <a:off x="3082320" y="3860280"/>
              <a:ext cx="383868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92929"/>
                  </a:solidFill>
                  <a:latin typeface="Arial"/>
                </a:rPr>
                <a:t>Results are spatially join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7" name="AutoShape 13"/>
            <p:cNvCxnSpPr>
              <a:stCxn id="296" idx="2"/>
              <a:endCxn id="298" idx="0"/>
            </p:cNvCxnSpPr>
            <p:nvPr/>
          </p:nvCxnSpPr>
          <p:spPr>
            <a:xfrm rot="5400000">
              <a:off x="4107960" y="3752280"/>
              <a:ext cx="324360" cy="1464480"/>
            </a:xfrm>
            <a:prstGeom prst="curvedConnector5">
              <a:avLst>
                <a:gd name="adj1" fmla="val 50000"/>
                <a:gd name="adj2" fmla="val 49987"/>
                <a:gd name="adj3" fmla="val 50000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8" name="Rectangle 14"/>
            <p:cNvSpPr/>
            <p:nvPr/>
          </p:nvSpPr>
          <p:spPr>
            <a:xfrm>
              <a:off x="1475280" y="4646160"/>
              <a:ext cx="412452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92929"/>
                  </a:solidFill>
                  <a:latin typeface="Arial"/>
                </a:rPr>
                <a:t>Maps and Data are Return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9" name="AutoShape 15"/>
            <p:cNvCxnSpPr>
              <a:stCxn id="298" idx="2"/>
              <a:endCxn id="300" idx="0"/>
            </p:cNvCxnSpPr>
            <p:nvPr/>
          </p:nvCxnSpPr>
          <p:spPr>
            <a:xfrm rot="5400000">
              <a:off x="2728440" y="4626000"/>
              <a:ext cx="325440" cy="1290600"/>
            </a:xfrm>
            <a:prstGeom prst="curvedConnector5">
              <a:avLst>
                <a:gd name="adj1" fmla="val 49944"/>
                <a:gd name="adj2" fmla="val 50000"/>
                <a:gd name="adj3" fmla="val 49944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00" name="Rectangle 16"/>
            <p:cNvSpPr/>
            <p:nvPr/>
          </p:nvSpPr>
          <p:spPr>
            <a:xfrm>
              <a:off x="177840" y="5433840"/>
              <a:ext cx="413964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92929"/>
                  </a:solidFill>
                  <a:latin typeface="Arial"/>
                </a:rPr>
                <a:t>Users Visualize Res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TextBox 52"/>
          <p:cNvSpPr/>
          <p:nvPr/>
        </p:nvSpPr>
        <p:spPr>
          <a:xfrm>
            <a:off x="1081800" y="29210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65160" y="5613480"/>
            <a:ext cx="763272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65160" y="4140360"/>
            <a:ext cx="7632720" cy="1460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965160" y="2946240"/>
            <a:ext cx="7632720" cy="11941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SimSun"/>
              </a:rPr>
              <a:t>Simplified IDSS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5429160" y="817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>
            <a:off x="5429160" y="1274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1968480" y="1041480"/>
            <a:ext cx="927000" cy="495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6515280" y="1028880"/>
            <a:ext cx="927000" cy="495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3328920" y="1270080"/>
            <a:ext cx="2908440" cy="660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Interf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xtJS and Open Lay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12"/>
          <p:cNvSpPr/>
          <p:nvPr/>
        </p:nvSpPr>
        <p:spPr>
          <a:xfrm>
            <a:off x="3684600" y="2187720"/>
            <a:ext cx="2197080" cy="495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3"/>
          <p:cNvSpPr/>
          <p:nvPr/>
        </p:nvSpPr>
        <p:spPr>
          <a:xfrm>
            <a:off x="2662200" y="3024360"/>
            <a:ext cx="2401920" cy="495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 Server (Apach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14"/>
          <p:cNvSpPr/>
          <p:nvPr/>
        </p:nvSpPr>
        <p:spPr>
          <a:xfrm>
            <a:off x="2200320" y="4477320"/>
            <a:ext cx="3089160" cy="711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dal power calc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15"/>
          <p:cNvSpPr/>
          <p:nvPr/>
        </p:nvSpPr>
        <p:spPr>
          <a:xfrm>
            <a:off x="5537160" y="4481280"/>
            <a:ext cx="2943360" cy="711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S Mapping &amp; query tools (Mapserv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16"/>
          <p:cNvSpPr/>
          <p:nvPr/>
        </p:nvSpPr>
        <p:spPr>
          <a:xfrm>
            <a:off x="3202920" y="5846760"/>
            <a:ext cx="4408200" cy="4078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(PostGIS) &amp; File Server (Linu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2898720" y="1320840"/>
            <a:ext cx="401760" cy="2970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26"/>
          <p:cNvSpPr/>
          <p:nvPr/>
        </p:nvSpPr>
        <p:spPr>
          <a:xfrm flipH="1">
            <a:off x="6244920" y="1266840"/>
            <a:ext cx="245880" cy="3556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29"/>
          <p:cNvSpPr/>
          <p:nvPr/>
        </p:nvSpPr>
        <p:spPr>
          <a:xfrm>
            <a:off x="5668920" y="3024360"/>
            <a:ext cx="2409840" cy="495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9" name="Elbow Connector 31"/>
          <p:cNvCxnSpPr>
            <a:stCxn id="310" idx="2"/>
            <a:endCxn id="311" idx="0"/>
          </p:cNvCxnSpPr>
          <p:nvPr/>
        </p:nvCxnSpPr>
        <p:spPr>
          <a:xfrm rot="5400000">
            <a:off x="4653720" y="2058480"/>
            <a:ext cx="258120" cy="108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0" name="Elbow Connector 43"/>
          <p:cNvCxnSpPr>
            <a:stCxn id="311" idx="2"/>
            <a:endCxn id="304" idx="0"/>
          </p:cNvCxnSpPr>
          <p:nvPr/>
        </p:nvCxnSpPr>
        <p:spPr>
          <a:xfrm rot="5400000">
            <a:off x="4649760" y="2813760"/>
            <a:ext cx="264240" cy="2160"/>
          </a:xfrm>
          <a:prstGeom prst="bentConnector3">
            <a:avLst>
              <a:gd name="adj1" fmla="val 49931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Elbow Connector 60"/>
          <p:cNvCxnSpPr>
            <a:stCxn id="312" idx="2"/>
            <a:endCxn id="313" idx="0"/>
          </p:cNvCxnSpPr>
          <p:nvPr/>
        </p:nvCxnSpPr>
        <p:spPr>
          <a:xfrm rot="5400000">
            <a:off x="3326040" y="3937680"/>
            <a:ext cx="956520" cy="119520"/>
          </a:xfrm>
          <a:prstGeom prst="bentConnector3">
            <a:avLst>
              <a:gd name="adj1" fmla="val 50000"/>
            </a:avLst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Elbow Connector 63"/>
          <p:cNvCxnSpPr>
            <a:stCxn id="318" idx="2"/>
            <a:endCxn id="314" idx="0"/>
          </p:cNvCxnSpPr>
          <p:nvPr/>
        </p:nvCxnSpPr>
        <p:spPr>
          <a:xfrm flipH="1" rot="16200000">
            <a:off x="6460200" y="3931920"/>
            <a:ext cx="961200" cy="135720"/>
          </a:xfrm>
          <a:prstGeom prst="bentConnector3">
            <a:avLst>
              <a:gd name="adj1" fmla="val 49981"/>
            </a:avLst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Elbow Connector 66"/>
          <p:cNvCxnSpPr>
            <a:stCxn id="318" idx="1"/>
            <a:endCxn id="312" idx="3"/>
          </p:cNvCxnSpPr>
          <p:nvPr/>
        </p:nvCxnSpPr>
        <p:spPr>
          <a:xfrm rot="10800000">
            <a:off x="5063400" y="3270960"/>
            <a:ext cx="605520" cy="2520"/>
          </a:xfrm>
          <a:prstGeom prst="bentConnector3">
            <a:avLst>
              <a:gd name="adj1" fmla="val 49970"/>
            </a:avLst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4" name="Elbow Connector 69"/>
          <p:cNvCxnSpPr>
            <a:stCxn id="315" idx="0"/>
            <a:endCxn id="313" idx="2"/>
          </p:cNvCxnSpPr>
          <p:nvPr/>
        </p:nvCxnSpPr>
        <p:spPr>
          <a:xfrm flipV="1" rot="16200000">
            <a:off x="4247640" y="4687200"/>
            <a:ext cx="656280" cy="1662840"/>
          </a:xfrm>
          <a:prstGeom prst="bentConnector3">
            <a:avLst>
              <a:gd name="adj1" fmla="val 50000"/>
            </a:avLst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5" name="Elbow Connector 72"/>
          <p:cNvCxnSpPr>
            <a:stCxn id="314" idx="2"/>
            <a:endCxn id="315" idx="0"/>
          </p:cNvCxnSpPr>
          <p:nvPr/>
        </p:nvCxnSpPr>
        <p:spPr>
          <a:xfrm rot="5400000">
            <a:off x="5880960" y="4719600"/>
            <a:ext cx="653040" cy="1602360"/>
          </a:xfrm>
          <a:prstGeom prst="bentConnector3">
            <a:avLst>
              <a:gd name="adj1" fmla="val 49972"/>
            </a:avLst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6" name="AutoShape 13"/>
          <p:cNvSpPr/>
          <p:nvPr/>
        </p:nvSpPr>
        <p:spPr>
          <a:xfrm>
            <a:off x="4148280" y="3568680"/>
            <a:ext cx="2401920" cy="495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ework (Djang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Elbow Connector 96"/>
          <p:cNvCxnSpPr>
            <a:endCxn id="326" idx="0"/>
          </p:cNvCxnSpPr>
          <p:nvPr/>
        </p:nvCxnSpPr>
        <p:spPr>
          <a:xfrm flipH="1" rot="16200000">
            <a:off x="5202000" y="3421440"/>
            <a:ext cx="292680" cy="2520"/>
          </a:xfrm>
          <a:prstGeom prst="bentConnector3">
            <a:avLst>
              <a:gd name="adj1" fmla="val 50000"/>
            </a:avLst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120308_MCR_Average.jpg"/>
          <p:cNvPicPr/>
          <p:nvPr/>
        </p:nvPicPr>
        <p:blipFill>
          <a:blip r:embed="rId1"/>
          <a:stretch/>
        </p:blipFill>
        <p:spPr>
          <a:xfrm>
            <a:off x="635040" y="189000"/>
            <a:ext cx="795024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120308_WI_Params.jpg"/>
          <p:cNvPicPr/>
          <p:nvPr/>
        </p:nvPicPr>
        <p:blipFill>
          <a:blip r:embed="rId1"/>
          <a:stretch/>
        </p:blipFill>
        <p:spPr>
          <a:xfrm>
            <a:off x="660240" y="214200"/>
            <a:ext cx="7937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20308_WI_Graphs.jpg"/>
          <p:cNvPicPr/>
          <p:nvPr/>
        </p:nvPicPr>
        <p:blipFill>
          <a:blip r:embed="rId1"/>
          <a:stretch/>
        </p:blipFill>
        <p:spPr>
          <a:xfrm>
            <a:off x="844560" y="210960"/>
            <a:ext cx="7577280" cy="59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6:05:44Z</dcterms:created>
  <dc:creator>Neil MacDonald</dc:creator>
  <dc:description/>
  <dc:language>en-US</dc:language>
  <cp:lastModifiedBy>Aaron Racicot</cp:lastModifiedBy>
  <dcterms:modified xsi:type="dcterms:W3CDTF">2008-12-05T06:56:24Z</dcterms:modified>
  <cp:revision>81</cp:revision>
  <dc:subject/>
  <dc:title>Integrated Decision Support System  for Tidal In Stream Energy Conversion Projects</dc:title>
</cp:coreProperties>
</file>